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E83F-FE49-48C4-B952-0A8792FE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614-47F3-4ADF-B90C-623E9F08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2E6-B8A9-4DE8-92C2-0D7D3CD5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857-8CDB-41AA-8FBD-F8903994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6237-0584-42B3-A7BC-95CEC6A7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D9A-4B94-4C2E-9D45-420CE75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21CA-A0D4-4ADA-BC41-DDA8D38D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14D-52C1-4E96-919B-5E93260B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AEF1-F522-4763-96DE-3FB25D2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809-4698-4E08-8E2D-B532BF8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A8BB-71E3-4324-AB71-EEE6076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1226-F8BC-4EAD-9755-D98DC2F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838-09B8-4A09-9895-2BD009E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BF0-E3A1-461E-B2A4-E66D994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FA1-033A-4037-A97C-39F506A9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5832-A0F7-4850-88B4-82169512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100A-C808-452F-8188-31A043D9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B92-74B3-4123-A234-E33839BB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AF1-A9FC-4E39-B9EC-1CEEB115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BB4-9FBC-4A65-B796-787C0D9E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544-8AB9-4999-B8AE-02308355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C72-540F-4529-B3E2-5F1D613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C5F-BB4A-425D-9ACC-6341C02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5D0-E418-4A20-81CF-F234B1BA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CFE-F9D4-487A-AAD8-A42A93BD7B0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23BF-112F-4119-B753-2FB268CDBA2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s of volcan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fety tip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great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7:09Z</dcterms:created>
  <dc:creator>D83  User</dc:creator>
  <dc:description/>
  <dc:language>en-US</dc:language>
  <cp:lastModifiedBy>D83  User</cp:lastModifiedBy>
  <dcterms:modified xsi:type="dcterms:W3CDTF">2010-10-21T14:16:41Z</dcterms:modified>
  <cp:revision>10</cp:revision>
  <dc:subject/>
  <dc:title>PowerPoint Presentation</dc:title>
</cp:coreProperties>
</file>